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CDAD-9942-43BA-89C5-B767BCA17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BCE1-C647-4FE4-98DC-B4C618BEE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15DB-E014-47CB-83F8-2CA9C0020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5E48-29F7-4670-B7E9-4019CCE41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FF35-0FAE-441A-8100-54D759FD4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7A9A-E3B0-494D-8CC4-73B3ABF5D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8B22-BEB7-499B-B337-0BB7B5B47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936A-3925-46FB-A058-D37B86389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1DA0-661B-4184-9074-F4F4EBF83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9FBE-018F-42A6-8521-6AAAF72EC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BB51-1FEC-4647-B5BD-D2B5283AD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5C24-4F04-41E9-98A8-B0CA1DB9F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32DB-A4AD-439F-AE72-C0372D392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61B5-B026-4680-92AE-B480143F2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30B3-F040-4FD9-A387-2D32BAB2A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756F-C443-425B-9C41-F4999F405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C7D1-0AEE-455C-8597-76369C755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CDA0-FC12-4D80-BEFF-6FAFF4A1D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80ED-9141-408F-BEB6-A1D720336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B2B0-90CA-46E1-9BAA-B2C5A69DA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FAA8-AC67-4707-BF0C-AC8ED6899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072E-632A-4CC7-946B-DA3CB0F94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69C4-7A7A-4C5B-8DBA-15920F46A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D408-F404-4B9A-B54C-2215FE032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C923-B989-4185-BA38-55EEC9767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46FA-AC12-4757-870F-5F5214DF4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14B8-D37E-46E0-8378-8C6E96DA8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BD30-BD67-43C8-84EA-E13F3812C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78D5-B59D-429C-AA66-5D034E182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0A50-81DF-4BD0-9E41-C239EC93B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1398-ED55-4AF9-93EE-5444D7194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4060-0560-4C53-B5A7-60A4F2291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9518-9A5E-45A1-84F2-3339CF57C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41DB-EB87-41CE-806F-9DFE75527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A740-E8D0-4E89-B57B-D5344901A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AFF5-CFE6-4F66-B901-D657B45A0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8B23-4F7F-48FB-BECE-254EE1651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35E9-B7E5-4601-891B-8835A144A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3A2F-DE68-4CA2-88F4-D4107B164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DDC2-5DA3-4A37-8BE2-944316FEA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13BB-B14C-44F7-90ED-AE63661F1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A90-CA7C-4192-ABBE-622177C3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B25-2768-41D6-8CBC-EFB20178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34C-7593-4DA4-8611-6304F06B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FE0-1C5F-407B-AD77-1BABBDD7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EB8-975D-4F21-8445-42A6B2D4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26D-DC8D-475F-89D6-66CCA3E4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4F3-A85B-4C0A-9158-ABCAF123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398-2D80-4EF4-9A47-91005300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18B-6831-4936-BBCB-C8479DE1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7B2-07C2-4C64-8C34-8FEC7E02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079-7669-4DFC-BFFA-7A616138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00E-FA45-414F-99B9-DA69615E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2B0C-BE2A-49C4-87A5-CAD5DEA17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und waves that most humans cannot hear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, for young people can hea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14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of these materials does sound travel fas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ame at the sam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15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ed of sound varies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ed of sound varies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" y="4800600"/>
            <a:ext cx="8458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nation: Although loudness varies with amplitude, and pitch varies with frequency, speed is not influenced by amplitude nor frequency. A listener in the back row at a concert would find music confusing if sound of different frequencies reached the ear at different tim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udness of a sound is most closely related to 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udness of a sound is most closely related to 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made to undergo reverberation is sound tha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ally vib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in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made to undergo reverberation is sound tha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ally vib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in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ultiply 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ound undergoes refraction, it undergoes a chang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ound undergoes refraction, it undergoes a chang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556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can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ed by 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und waves that most humans cannot hear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, for young people can hea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can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ed by 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502920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Sound, like any wave, can undergo all of these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ng an invisible object by way of ultrasound is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ng an invisible object by way of ultrasound is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normally travels farther in air when the soun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normally travels farther in air when the soun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w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57200" y="510552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nation: Hence the low tone of fog horns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ctory floor vibrates, and as a result you vibrate when standing on the floor. This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ctory floor vibrates, and as a result you vibrate when standing on the floor. This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ap various objects, they produce characteristic sounds that are relat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ap various objects, they produce characteristic sounds that are relat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surface of a guitar is made to vibrate, we say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air by a seri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f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surface of a guitar is made to vibrate, we say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The sound may be enhanced, but it is the surface of the guitar that undergoes forced vibration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6598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 object is set vibrating by a wave having a frequency that matches the natural frequency of the object, what occur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2720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598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 object is set vibrating by a wave having a frequency that matches the natural frequency of the object, what occur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2720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Resonance, rather than amplitude enhancement, is the better answer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e-canceling devices such as jackhammer earphones make use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e-canceling devices such as jackhammer earphones make use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14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henomenon of beats is the result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640" y="114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henomenon of beats is the result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934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134-Hz tuning fork and a 144-Hz tuning fork are struck, the beat frequenc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640" y="3934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134-Hz tuning fork and a 144-Hz tuning fork are struck, the beat frequenc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re than 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nation: The beat frequency is the difference between the two, 10 Hz (which is more than 8 Hz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radio set is tuned to an incoming radio signal, what occ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396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air by a seri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f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radio set is tuned to an incoming radio signal, what occ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ibrations set up in a radio loudspeaker have the same frequencies as the vib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lectric signal feeding the loud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roduce the sound you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ibrations set up in a radio loudspeaker have the same frequencies as the vib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lectric signal feeding the loud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roduce the sound you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015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320" y="114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of these materials does sound travel fas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ame at the sam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5:04:42Z</dcterms:created>
  <dc:creator>dking</dc:creator>
  <dc:description/>
  <dc:language>en-US</dc:language>
  <cp:lastModifiedBy>Asus</cp:lastModifiedBy>
  <dcterms:modified xsi:type="dcterms:W3CDTF">2018-03-09T16:37:52Z</dcterms:modified>
  <cp:revision>88</cp:revision>
  <dc:subject/>
  <dc:title>Chapter 10</dc:title>
</cp:coreProperties>
</file>